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1C02-4B8A-4F81-8DFF-F7EAADC4D1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7D02-F04B-4184-A77B-6B3BC90AE8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A0F1-22E8-4D2F-969D-C314E58172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B05E-60C0-47C7-A360-B9D77CE030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AF57-52AD-4EAA-98CC-35AF3BCD2F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5499-2FB0-4D30-BABD-74EA43F1B9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E81C-622F-4BD4-96C1-C46AE50229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C16F-701B-4F7B-B0A8-38CDC40DA8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4787-3268-4B13-AE9A-A765C20D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FA6A-A9E6-46B7-911F-6521D70C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F218-454E-4D39-BEB2-9D46E304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95C5-65ED-44C5-B8BB-DE6D0291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1F1-8E6F-48C0-AC94-746B4CB9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361-9629-4E0E-9DC0-6EBF4C43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02D2-9A48-4394-8684-57C21509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3E1-6CE7-4C40-A325-4D753B58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8DB-3650-4831-BBDF-6655BA1E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67A0-6372-49DC-8B6B-A79E2422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517-DDFF-4A76-AECE-10C7F2CF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067-3D13-4082-9D5E-844706F6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E902-F69B-474F-9EB6-88A927863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ICE-BASED SYSTEMS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E TINDWA, DANNY COYNE, VICTOR AFARI-SEFA, BAKARI KAONEKA, GEORGE MHINA, SILVEST SAMALI, JONNE RODENBU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Grou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2285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Vegetable production constrai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290664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access (e.g. quality see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sts &amp; dis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 harv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1640" y="2285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ice production 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1640" y="29066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eds (incl. wild ri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sts (incl. birds) &amp; dis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fert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vest &amp; post harvest lo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le 3"/>
          <p:cNvSpPr/>
          <p:nvPr/>
        </p:nvSpPr>
        <p:spPr>
          <a:xfrm>
            <a:off x="457200" y="1600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 big five production constra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20520" y="13716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Community-based seed and seedling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d cv’s, good quality and clean seeds, healthy seedlings, promotion of good planting methods (e.g. timing, land preparation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Integrated crop manageme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iming of operations, cropping sequences (rotations), labour-saving technologies,  small-mech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Water-man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UE-enhancing technologies (e.g. drip irrigation, AWD/aerobic rice systems), water harvesting/ water conservation (e.g. bunding, ridg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Harvest and post-harvest hand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mall mechanization (e.g. harvesters, threshers), improved packaging, grading and standard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Mark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arehouse receipt systems, farmer organizations to improve market access, farmer access to dedicated markets (avoiding trader’s and elevated prices), food quality and safety standa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le 3"/>
          <p:cNvSpPr/>
          <p:nvPr/>
        </p:nvSpPr>
        <p:spPr>
          <a:xfrm>
            <a:off x="-76320" y="7621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echnologies addressing major constraints using G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0" y="34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hat combination of technologies would potentially fit in this system (bearing constraints in mind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00" y="-36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9144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ess current situation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x-an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mpact study, incl. biophysical constraint assessment: yield gap, diagnostic and base-line survey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fricaRice already developed surveys for thi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Multi-Stakeholder Platform (MSP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’s for stakeholder/farmer meetings to assess resources, constraints, needs and opportunities in terms of intensification &amp; diversification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… along the value chain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sensitization and training/awarenes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monstrations and evaluation of seed and seedling system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-based demonstration trials on rice-vegetable(-livestock) integrated system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ater management demo trial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chanization: introduction, evaluation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(and adaptation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variety evaluation (rice and vegetables)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evaluating improved post harvest handling practices (e.g. packaging, processing)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 analyses and farmer evaluation exercises (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 farmer groups and dedicated market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br>
              <a:rPr sz="4000"/>
            </a:b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PARTN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I’s: IITA, AfricaRice, AVRDC, IL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LDO’s of Kilombero and Mvom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TI-Tenge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P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RIN and Dakawa - 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Calibri"/>
              </a:rPr>
              <a:t>COLLABOR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FAK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ro deal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ed suppliers/compan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AT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ermech Engineerin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MARTE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F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’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 universities (…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1258920" y="1844640"/>
            <a:ext cx="3600360" cy="2808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3"/>
          <p:cNvSpPr/>
          <p:nvPr/>
        </p:nvSpPr>
        <p:spPr>
          <a:xfrm>
            <a:off x="179280" y="3357720"/>
            <a:ext cx="3600720" cy="2808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4"/>
          <p:cNvSpPr/>
          <p:nvPr/>
        </p:nvSpPr>
        <p:spPr>
          <a:xfrm>
            <a:off x="2340000" y="3357720"/>
            <a:ext cx="3600360" cy="2808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676520" y="249552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922560" y="4933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5013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omic Sans MS"/>
                <a:ea typeface="Arial"/>
              </a:rPr>
              <a:t>2.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9:02:04Z</dcterms:created>
  <dc:creator>LeBorgne, Ewen (ILRI)</dc:creator>
  <dc:description/>
  <dc:language>en-US</dc:language>
  <cp:lastModifiedBy>LeBorgne, Ewen (ILRI)</cp:lastModifiedBy>
  <dcterms:modified xsi:type="dcterms:W3CDTF">2012-10-09T12:14:27Z</dcterms:modified>
  <cp:revision>32</cp:revision>
  <dc:subject/>
  <dc:title>What component technologies  would fit in this system?</dc:title>
</cp:coreProperties>
</file>